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C54053-10E4-4CA3-AAF0-9F006F10A02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5C42AE-EA7B-43E9-B3D0-2EB0901563E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54F-CAD4-40FD-ABD9-F358D729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23E-3B30-4DB6-BFFE-03AA095E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D23-6508-4BA6-B7EE-171C76D2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FA5-1444-48FA-B9F3-898A4DD9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63B-E98D-45F4-A662-4B754E62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09A-3752-449D-BBD1-B80D8FF6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4BE-D400-4885-9DDF-326267E9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61D-90E5-478D-9DD0-9D80E9B3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F5E-4A46-4682-82E3-9423F973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CCE-6121-4F8C-9EE6-647AC1E6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B9A-52E4-49D7-9FA1-00EB1EAF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E8C-6E5A-48A8-A3A7-1FF6E28A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8639-AD27-4529-A30D-FB440CC89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online.fasie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ЫЙ КОНКУР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ММЕРЦИАЛИЗАЦИ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МАЛЫХ ИННОВАЦИОННЫХ ПРЕДПРИЯТ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предоставлению грантов на финансовое обеспечение (возмещение) расходов, связанных с реализацией инновационных проектов, результаты которых имеют перспективу коммерциализаци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исключением расходов на выполнение научно-исследовательских и опытно-конструкторских рабо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4370400" cy="1506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24000" y="6237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чее название конкурса, возможны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4720" y="34092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РИАНТЫ ФИНАНСИРОВАНИЯ МАЛЫХ ИННОВАЦИОННЫ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хема 10" descr=""/>
          <p:cNvPicPr/>
          <p:nvPr/>
        </p:nvPicPr>
        <p:blipFill>
          <a:blip r:embed="rId2"/>
          <a:stretch/>
        </p:blipFill>
        <p:spPr>
          <a:xfrm>
            <a:off x="407880" y="2457360"/>
            <a:ext cx="3756240" cy="186552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11" descr=""/>
          <p:cNvPicPr/>
          <p:nvPr/>
        </p:nvPicPr>
        <p:blipFill>
          <a:blip r:embed="rId3"/>
          <a:stretch/>
        </p:blipFill>
        <p:spPr>
          <a:xfrm>
            <a:off x="4803840" y="2444760"/>
            <a:ext cx="4626000" cy="185904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6"/>
          <p:cNvCxnSpPr/>
          <p:nvPr/>
        </p:nvCxnSpPr>
        <p:spPr>
          <a:xfrm flipH="1">
            <a:off x="2339640" y="1483920"/>
            <a:ext cx="1152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7"/>
          <p:cNvCxnSpPr/>
          <p:nvPr/>
        </p:nvCxnSpPr>
        <p:spPr>
          <a:xfrm>
            <a:off x="5580000" y="1483920"/>
            <a:ext cx="1008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12"/>
          <p:cNvSpPr/>
          <p:nvPr/>
        </p:nvSpPr>
        <p:spPr>
          <a:xfrm>
            <a:off x="1403280" y="4653000"/>
            <a:ext cx="65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урсе могут принимать участие юридические лица и индивидуальные предприниматели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ствующие не менее г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ответствующие критериям отнесения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бъекту малого предприниматель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ответствии с Федеральным законом № 209-ФЗ от 24.07.2007 г., среди видов экономической деятельности которых име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д ОКВЭД 72.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учные исследования и разработки в области естественных и технических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и подача заявок производится в сети Интернет по адр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online.fasie.ru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www.система-фонд.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тельная документация 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хема 3" descr=""/>
          <p:cNvPicPr/>
          <p:nvPr/>
        </p:nvPicPr>
        <p:blipFill>
          <a:blip r:embed="rId2"/>
          <a:stretch/>
        </p:blipFill>
        <p:spPr>
          <a:xfrm>
            <a:off x="1182600" y="1262160"/>
            <a:ext cx="6894720" cy="21762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4"/>
          <p:cNvSpPr/>
          <p:nvPr/>
        </p:nvSpPr>
        <p:spPr>
          <a:xfrm>
            <a:off x="1301760" y="3948120"/>
            <a:ext cx="294012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5219640" y="393372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6"/>
          <p:cNvGrpSpPr/>
          <p:nvPr/>
        </p:nvGrpSpPr>
        <p:grpSpPr>
          <a:xfrm>
            <a:off x="1301760" y="4657680"/>
            <a:ext cx="2952720" cy="576360"/>
            <a:chOff x="1301760" y="4657680"/>
            <a:chExt cx="2952720" cy="576360"/>
          </a:xfrm>
        </p:grpSpPr>
        <p:sp>
          <p:nvSpPr>
            <p:cNvPr id="63" name="Скругленный прямоугольник 13"/>
            <p:cNvSpPr/>
            <p:nvPr/>
          </p:nvSpPr>
          <p:spPr>
            <a:xfrm>
              <a:off x="1301760" y="4790520"/>
              <a:ext cx="2952720" cy="44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Скругленный прямоугольник 4"/>
            <p:cNvSpPr/>
            <p:nvPr/>
          </p:nvSpPr>
          <p:spPr>
            <a:xfrm>
              <a:off x="1306800" y="4657680"/>
              <a:ext cx="2942640" cy="5547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календарный план выполнения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Группа 7"/>
          <p:cNvGrpSpPr/>
          <p:nvPr/>
        </p:nvGrpSpPr>
        <p:grpSpPr>
          <a:xfrm>
            <a:off x="1297080" y="5211720"/>
            <a:ext cx="2952720" cy="488880"/>
            <a:chOff x="1297080" y="5211720"/>
            <a:chExt cx="2952720" cy="488880"/>
          </a:xfrm>
        </p:grpSpPr>
        <p:sp>
          <p:nvSpPr>
            <p:cNvPr id="66" name="Скругленный прямоугольник 11"/>
            <p:cNvSpPr/>
            <p:nvPr/>
          </p:nvSpPr>
          <p:spPr>
            <a:xfrm>
              <a:off x="1297080" y="5211720"/>
              <a:ext cx="2952720" cy="488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Скругленный прямоугольник 6"/>
            <p:cNvSpPr/>
            <p:nvPr/>
          </p:nvSpPr>
          <p:spPr>
            <a:xfrm>
              <a:off x="1302120" y="5235480"/>
              <a:ext cx="2942640" cy="4413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смета расходов на выполнение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Группа 8"/>
          <p:cNvGrpSpPr/>
          <p:nvPr/>
        </p:nvGrpSpPr>
        <p:grpSpPr>
          <a:xfrm>
            <a:off x="1297080" y="5676840"/>
            <a:ext cx="2952720" cy="542880"/>
            <a:chOff x="1297080" y="5676840"/>
            <a:chExt cx="2952720" cy="542880"/>
          </a:xfrm>
        </p:grpSpPr>
        <p:sp>
          <p:nvSpPr>
            <p:cNvPr id="69" name="Скругленный прямоугольник 9"/>
            <p:cNvSpPr/>
            <p:nvPr/>
          </p:nvSpPr>
          <p:spPr>
            <a:xfrm>
              <a:off x="1297080" y="5676840"/>
              <a:ext cx="2952720" cy="54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Скругленный прямоугольник 8"/>
            <p:cNvSpPr/>
            <p:nvPr/>
          </p:nvSpPr>
          <p:spPr>
            <a:xfrm>
              <a:off x="1302120" y="5703120"/>
              <a:ext cx="2942640" cy="4899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документы, подтверждающие привлечение денежных средств инвестора или собственных средст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Группа 15"/>
          <p:cNvGrpSpPr/>
          <p:nvPr/>
        </p:nvGrpSpPr>
        <p:grpSpPr>
          <a:xfrm>
            <a:off x="5268960" y="4668840"/>
            <a:ext cx="2809800" cy="685800"/>
            <a:chOff x="5268960" y="4668840"/>
            <a:chExt cx="2809800" cy="685800"/>
          </a:xfrm>
        </p:grpSpPr>
        <p:sp>
          <p:nvSpPr>
            <p:cNvPr id="72" name="Скругленный прямоугольник 19"/>
            <p:cNvSpPr/>
            <p:nvPr/>
          </p:nvSpPr>
          <p:spPr>
            <a:xfrm>
              <a:off x="5268960" y="4668840"/>
              <a:ext cx="28098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Скругленный прямоугольник 4"/>
            <p:cNvSpPr/>
            <p:nvPr/>
          </p:nvSpPr>
          <p:spPr>
            <a:xfrm>
              <a:off x="5280480" y="4702320"/>
              <a:ext cx="2786760" cy="61884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финансовый отчет о понесенных расходах на реализацию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Группа 16"/>
          <p:cNvGrpSpPr/>
          <p:nvPr/>
        </p:nvGrpSpPr>
        <p:grpSpPr>
          <a:xfrm>
            <a:off x="5268960" y="5334120"/>
            <a:ext cx="2809800" cy="885600"/>
            <a:chOff x="5268960" y="5334120"/>
            <a:chExt cx="2809800" cy="885600"/>
          </a:xfrm>
        </p:grpSpPr>
        <p:sp>
          <p:nvSpPr>
            <p:cNvPr id="75" name="Скругленный прямоугольник 17"/>
            <p:cNvSpPr/>
            <p:nvPr/>
          </p:nvSpPr>
          <p:spPr>
            <a:xfrm>
              <a:off x="5268960" y="5334120"/>
              <a:ext cx="2809800" cy="885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Скругленный прямоугольник 6"/>
            <p:cNvSpPr/>
            <p:nvPr/>
          </p:nvSpPr>
          <p:spPr>
            <a:xfrm>
              <a:off x="5280480" y="5377320"/>
              <a:ext cx="2786760" cy="73692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гарантийное письмо о том, что в соответствии со ст.14 209-ФЗ от 24.07.2007 г., запрашиваемые для финансовой поддержки статьи расходов  ранее не финансировались из других бюджетных источник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7" name="Прямая со стрелкой 22"/>
          <p:cNvCxnSpPr>
            <a:endCxn id="60" idx="0"/>
          </p:cNvCxnSpPr>
          <p:nvPr/>
        </p:nvCxnSpPr>
        <p:spPr>
          <a:xfrm flipH="1">
            <a:off x="2770920" y="3213000"/>
            <a:ext cx="1801080" cy="73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23"/>
          <p:cNvCxnSpPr>
            <a:endCxn id="61" idx="0"/>
          </p:cNvCxnSpPr>
          <p:nvPr/>
        </p:nvCxnSpPr>
        <p:spPr>
          <a:xfrm>
            <a:off x="4572000" y="3213000"/>
            <a:ext cx="20530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27"/>
          <p:cNvCxnSpPr>
            <a:stCxn id="60" idx="2"/>
          </p:cNvCxnSpPr>
          <p:nvPr/>
        </p:nvCxnSpPr>
        <p:spPr>
          <a:xfrm>
            <a:off x="2771280" y="4379760"/>
            <a:ext cx="252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28"/>
          <p:cNvCxnSpPr/>
          <p:nvPr/>
        </p:nvCxnSpPr>
        <p:spPr>
          <a:xfrm>
            <a:off x="6732720" y="4392360"/>
            <a:ext cx="21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Скругленный прямоугольник 29"/>
          <p:cNvSpPr/>
          <p:nvPr/>
        </p:nvSpPr>
        <p:spPr>
          <a:xfrm>
            <a:off x="2778120" y="954000"/>
            <a:ext cx="3456000" cy="216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Прямая со стрелкой 30"/>
          <p:cNvCxnSpPr/>
          <p:nvPr/>
        </p:nvCxnSpPr>
        <p:spPr>
          <a:xfrm>
            <a:off x="4571640" y="1157400"/>
            <a:ext cx="108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олнительная документ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хема 3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6625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оритетные направления, по которым проводится конкурс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хема 4" descr=""/>
          <p:cNvPicPr/>
          <p:nvPr/>
        </p:nvPicPr>
        <p:blipFill>
          <a:blip r:embed="rId2"/>
          <a:stretch/>
        </p:blipFill>
        <p:spPr>
          <a:xfrm>
            <a:off x="1054080" y="1517760"/>
            <a:ext cx="70293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ируемые статьи расходов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4" descr=""/>
          <p:cNvPicPr/>
          <p:nvPr/>
        </p:nvPicPr>
        <p:blipFill>
          <a:blip r:embed="rId2"/>
          <a:stretch/>
        </p:blipFill>
        <p:spPr>
          <a:xfrm>
            <a:off x="378000" y="974880"/>
            <a:ext cx="8315280" cy="4187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84120" y="5229360"/>
            <a:ext cx="83534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ый объем гранта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10 млн. руб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малому инновационному предприятию, при условии, что размер собственных средств получателя гранта и (или) средств третьих лиц, привлеченных для выполнения инновационного проекта не может быть менее величины получаемого гр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14 Федерального закона № 209-ФЗ от 24.07.2007 г. запрашиваемые для финансовой поддержки статьи расходов, согласно прилагаемой смет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должны ранее финансироваться из других бюджет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24000" y="6453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расходов предварительный, после согласования с Минэкономразвития и Минфином РФ возможны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 зая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хема 2" descr=""/>
          <p:cNvPicPr/>
          <p:nvPr/>
        </p:nvPicPr>
        <p:blipFill>
          <a:blip r:embed="rId2"/>
          <a:stretch/>
        </p:blipFill>
        <p:spPr>
          <a:xfrm>
            <a:off x="695160" y="1407960"/>
            <a:ext cx="7894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предоставления гра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2"/>
          <p:cNvSpPr/>
          <p:nvPr/>
        </p:nvSpPr>
        <p:spPr>
          <a:xfrm>
            <a:off x="1128600" y="1052640"/>
            <a:ext cx="293868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5292720" y="1052640"/>
            <a:ext cx="280836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хема 4" descr=""/>
          <p:cNvPicPr/>
          <p:nvPr/>
        </p:nvPicPr>
        <p:blipFill>
          <a:blip r:embed="rId2"/>
          <a:stretch/>
        </p:blipFill>
        <p:spPr>
          <a:xfrm>
            <a:off x="523800" y="1609560"/>
            <a:ext cx="40118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97" name="Группа 5"/>
          <p:cNvGrpSpPr/>
          <p:nvPr/>
        </p:nvGrpSpPr>
        <p:grpSpPr>
          <a:xfrm>
            <a:off x="4716360" y="1628640"/>
            <a:ext cx="3959280" cy="1152720"/>
            <a:chOff x="4716360" y="1628640"/>
            <a:chExt cx="3959280" cy="1152720"/>
          </a:xfrm>
        </p:grpSpPr>
        <p:sp>
          <p:nvSpPr>
            <p:cNvPr id="98" name="Выноска со стрелкой вверх 6"/>
            <p:cNvSpPr/>
            <p:nvPr/>
          </p:nvSpPr>
          <p:spPr>
            <a:xfrm rot="10800000">
              <a:off x="4716360" y="1628640"/>
              <a:ext cx="3959280" cy="1152720"/>
            </a:xfrm>
            <a:prstGeom prst="upArrowCallout">
              <a:avLst>
                <a:gd name="adj1" fmla="val 24999"/>
                <a:gd name="adj2" fmla="val 24997"/>
                <a:gd name="adj3" fmla="val 25000"/>
                <a:gd name="adj4" fmla="val 70041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Выноска со стрелкой вверх 4"/>
            <p:cNvSpPr/>
            <p:nvPr/>
          </p:nvSpPr>
          <p:spPr>
            <a:xfrm>
              <a:off x="4716360" y="1628640"/>
              <a:ext cx="395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85320" bIns="85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Заключение контракта на предоставления грантов малому инновационного предприятию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на возмещение расход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12"/>
          <p:cNvSpPr/>
          <p:nvPr/>
        </p:nvSpPr>
        <p:spPr>
          <a:xfrm>
            <a:off x="4859280" y="5373720"/>
            <a:ext cx="3673440" cy="1368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5 лет после получения Гранта предприятие ежегодно до 15 апреля предоставляет в Фон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ю о достижении плановых показателей реализации инновационного про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хгалтерскую отчетность и сведения о среднесписочной численности за прошедши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вниз 13"/>
          <p:cNvSpPr/>
          <p:nvPr/>
        </p:nvSpPr>
        <p:spPr>
          <a:xfrm rot="16200000">
            <a:off x="4473360" y="5697000"/>
            <a:ext cx="390600" cy="320400"/>
          </a:xfrm>
          <a:prstGeom prst="downArrow">
            <a:avLst>
              <a:gd name="adj1" fmla="val 37194"/>
              <a:gd name="adj2" fmla="val 6385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низ 14"/>
          <p:cNvSpPr/>
          <p:nvPr/>
        </p:nvSpPr>
        <p:spPr>
          <a:xfrm>
            <a:off x="6480000" y="4956120"/>
            <a:ext cx="432000" cy="417600"/>
          </a:xfrm>
          <a:prstGeom prst="downArrow">
            <a:avLst>
              <a:gd name="adj1" fmla="val 35287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хема 18" descr=""/>
          <p:cNvPicPr/>
          <p:nvPr/>
        </p:nvPicPr>
        <p:blipFill>
          <a:blip r:embed="rId3"/>
          <a:stretch/>
        </p:blipFill>
        <p:spPr>
          <a:xfrm>
            <a:off x="4687920" y="2755800"/>
            <a:ext cx="38764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стых Денис Валерьевич - консультант отдела экспертизы и мониторин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да содействия развитию малых форм предприятий в научно-технической сф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9034, Москва, 3-й Обыденский переулок, д.1, стр.5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. 1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.: +7 (495) 231-19-06 доб.1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lstykh@fasie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7:34:53Z</dcterms:created>
  <dc:creator>Толстых Денис Валерьевич</dc:creator>
  <dc:description/>
  <dc:language>en-US</dc:language>
  <cp:lastModifiedBy>Alexey</cp:lastModifiedBy>
  <dcterms:modified xsi:type="dcterms:W3CDTF">2014-09-24T12:46:09Z</dcterms:modified>
  <cp:revision>53</cp:revision>
  <dc:subject/>
  <dc:title>ОТКРЫТЫЙ КОНКУРС   ДЛЯ СУБЪЕКТОВ МАЛОГО ПРЕДПРИНИМАТЕЛЬСТВА</dc:title>
</cp:coreProperties>
</file>